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34E-C6A9-45AB-9E7B-631F1DAB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C07-5F22-413B-9DB7-AF738760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9C9-E27F-49E3-8D12-CD7338F1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9EE-0A28-4E18-8A0B-FAED6CCD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953-D06A-41C3-A827-ED97F0C3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0F2-E215-40FD-B5DF-47ADE979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457-3AD3-4EB9-842F-04EF367B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CD5-6550-4DBC-AC02-6A686BDA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9AA-2789-4CD4-ABB5-8FCBEB55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F5B-4B76-4E4A-9800-6E17A082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E32-4739-4443-A487-96C124CC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F47-FA0E-4EBC-A9F8-3DFCDD6C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2157-0E3C-45D7-8037-C71B4ED5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5 Kans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ma, Elise, Phil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6815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 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was born November 25,1846 in Kentuc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 Nation was the member of the Woman’s Christian Un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known for attacking saloons and other drinking establish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the years she has adapted the name, Carrie A. N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ie was controversial during her life and she remains in her de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has been described as a religious fanatic, crank, exhibitionist, and a misfortu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was having symptoms of mental problems since she was n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ie Nation was a very complex person who was easy to stereotype and very difficult to underst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ies Mother was one in her family that suffered from mental iss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ie married David Nation in 187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oved to Texas, then to Medicine Lodge, Kansas in 1889, Where David became a Pastor of the Christian Chur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 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00800" y="12952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057400" y="3809880"/>
            <a:ext cx="1716120" cy="240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648320" y="3886200"/>
            <a:ext cx="3047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40:49Z</dcterms:created>
  <dc:creator>USD376</dc:creator>
  <dc:description/>
  <dc:language>en-US</dc:language>
  <cp:lastModifiedBy>USD376</cp:lastModifiedBy>
  <dcterms:modified xsi:type="dcterms:W3CDTF">2012-05-21T16:29:49Z</dcterms:modified>
  <cp:revision>2</cp:revision>
  <dc:subject/>
  <dc:title>Top 5 Kansans</dc:title>
</cp:coreProperties>
</file>